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7D4-B827-4DFB-97AC-8B3048D0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FD3-EEC9-487C-B3FF-7CBF735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A37-B97E-45A4-96E5-951904A1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FFD-09CB-4985-950D-95AFF569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926-DCBD-4E76-BB95-3B78337C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69B-E3FA-4BFA-B503-9264743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5F0-0BCF-4AE7-A609-0088C6C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BC5-A996-4B10-9020-9B9D5507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68C-675B-4207-A767-3302A5D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246-173A-4614-B74A-5438C05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4C5-1EC7-4E44-860F-B98F214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E26-53B8-47DA-91C8-6F52DD8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0C1A-9DC3-49BB-BA22-BE424E0C9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Persuasive Essay No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fferent Ways to Support Your Argu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Use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ery POWERFUL too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Can come from your research, observation or   personal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ff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Use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Make sure your statistics come from responsible sources (always cite your source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ff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Use 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irect quotes from leading experts that support your position are invalu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ff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Us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xamples add additional proof to support your position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ersuasive wri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Persuasive wri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form of writing that use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otions, log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thi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show that 1 idea is more reasonable than another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der to write persuasively, you NEED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n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issue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 That has A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p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In your Class President speeches, there was an issue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I or should I not be your class president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at had 2 opposing view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66ff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Viewpoint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I SHOULD be class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iewpoint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HOULD NOT be your class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Tips to Writing a SOLID persuasive essa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Tip #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KNOW THE PURPOSE OF YOUR ES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your topic AND your position carefully!  What issue or topic do you plan to discuss AND which side of the issue/problem are you going to arg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Tip #2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KNOW YOUR AUD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if your audience agrees with you, is neutral, or disagrees with your posi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way you argue with your mother or father probably wouldn’t persuade Ms. Lehm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Tip #3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RESEARCH YOUR TOP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uasive essay MUST provide specific and convincing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this means you need to get more information from the library, books, and the inter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Tip #4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Arial"/>
              </a:rPr>
              <a:t>STRUCTURE YOUR ESS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out what evidence you will include and in what order you will present your evidence.  Remember to consider your purpose, your audience and your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18:01Z</dcterms:created>
  <dc:creator>BPS</dc:creator>
  <dc:description/>
  <dc:language>en-US</dc:language>
  <cp:lastModifiedBy>BPS</cp:lastModifiedBy>
  <dcterms:modified xsi:type="dcterms:W3CDTF">2009-09-24T00:28:25Z</dcterms:modified>
  <cp:revision>3</cp:revision>
  <dc:subject/>
  <dc:title>Persuasive Essay Notes</dc:title>
</cp:coreProperties>
</file>